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28D-0EA5-4BE0-A4A5-88AC3111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95E-44A8-4A93-971A-8F1946A1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B38-C7E2-47F1-9E45-DAB15A28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5EA-EF6B-40AF-9C5C-C46B1B78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8E97-A09A-4902-9075-4E99B26A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696F-D7C1-4E48-A7E8-2CAB475D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9E37-25CD-45D6-AD1D-F4D86574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6699-9586-485E-8BA2-A17C4C31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228A-9CD1-4CBB-8B85-C2DC21BE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D617-41BF-4B78-BEE2-C98773BE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E96F-C802-418F-9412-546F81E3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4AF-6D37-461B-AC0A-DEE74AF8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C6A5-8140-4F79-B6F7-8A02315F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ACC9-A9BE-47BA-8CC1-EA26F7D6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54DB-7322-4572-B5EA-42AC0211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AD18-3EA7-40CF-A5A1-0F2A90AC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1CBE-76AC-40FE-8676-4D242E78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C97-3148-4F2A-8F70-F7B7D70B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81B-4058-4F18-B195-656EFE75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883-34AA-4A09-B669-F64B0997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C90-A150-47E1-8B71-29E44FFF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99E1-24A7-4ED8-BFBA-1904252E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EC0-1432-4F42-BBA6-035FEB9B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58A-F523-4249-8284-DFAE93D7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B681-4562-4989-9CE8-185A5CBD18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0102-46EA-4D19-8BCB-964EDF0DAA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cityreview.com/malevich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: Rhy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gressive Rhythm: Converging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gressive Rhy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nother type of rhythm is where the repetition of a shape changes in a regular ma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shapes that gets bigger or smaller as it repeats demonstrates progressive rhyth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include color, value, and tex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very familiar type of rhythm for 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33520" y="5942160"/>
            <a:ext cx="807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4724280" y="586728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Weston. Artichoke, Halved. 1930. Silver gelatin print, 7’ 1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” x 9’ 1/2” (19 x 24.1 cm).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981. Center for Creative Photography, Arizona Board of Re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0615"/>
          <p:cNvPicPr/>
          <p:nvPr/>
        </p:nvPicPr>
        <p:blipFill>
          <a:blip r:embed="rId1"/>
          <a:stretch/>
        </p:blipFill>
        <p:spPr>
          <a:xfrm>
            <a:off x="4648320" y="2044800"/>
            <a:ext cx="403848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LYRHYTHMIC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verly of perhaps several different rhythmic patterns produces a complex result, even if the parts may be simple.   This is known as Polyrhythmic Struc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579600" y="6324480"/>
            <a:ext cx="798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ean Léone Gérome.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The Duel after the Masquerade. 1857–1859. Oil on canvas, 1' 3 ⁄ ” x 1' 10 ⁄16" (39.1 x 56.3 cm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06-122.tiff"/>
          <p:cNvPicPr/>
          <p:nvPr/>
        </p:nvPicPr>
        <p:blipFill>
          <a:blip r:embed="rId1"/>
          <a:stretch/>
        </p:blipFill>
        <p:spPr>
          <a:xfrm>
            <a:off x="1989000" y="2666880"/>
            <a:ext cx="5166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aging the S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inesthetic empat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When a visual experience (an art piece) stimulates one of our other senses. If you look at a piece of art and it resonates with memories and/or associations, that is kinesthetic 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oking Sight, Sound and Tou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457200" y="5562720"/>
            <a:ext cx="487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 Burchfield. The Insect Chorus. 1917. Opaque and transparent watercolor with ink and crayon on paper,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 7 7/8”x  1’ 3 7/8” (50 x 40 cm). Munson-Williams-Proctor Institute. Museum of Art, Utica, New York (Edward W. Root Bequest), 58.10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5" descr="0617"/>
          <p:cNvPicPr/>
          <p:nvPr/>
        </p:nvPicPr>
        <p:blipFill>
          <a:blip r:embed="rId1"/>
          <a:stretch/>
        </p:blipFill>
        <p:spPr>
          <a:xfrm>
            <a:off x="5459400" y="1600200"/>
            <a:ext cx="3532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voking Sight, Sound and Tou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hythm of an artwork’s design creates a sensation, for example heat, metallic sound, jumpines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rematis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 Russian art movement of the early 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 that emphasized nonobjectiv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thecityreview.com/malevic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33520" y="563868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simir Malevich. Suprematist Composition: Sensation of Metallic Sounds. 1915. Pencil, 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 x 6 1/2” (20.9 x 16.4 cm). Kunstmuseum Basel, Kupferstichkabinett (1969.51.11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0618"/>
          <p:cNvPicPr/>
          <p:nvPr/>
        </p:nvPicPr>
        <p:blipFill>
          <a:blip r:embed="rId2"/>
          <a:stretch/>
        </p:blipFill>
        <p:spPr>
          <a:xfrm>
            <a:off x="4648320" y="1879560"/>
            <a:ext cx="40384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: Visual Rhyth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2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hyth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ign principle that is based on repet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rhythm is based on the repetition of elements that are the same or only slightly mod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thm is a beat or flow of images that invoke a feeling of pattern or rhy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ociate rhythm with hearing, but it can also be vis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533520" y="6095880"/>
            <a:ext cx="380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t Riley. Series 35. Olive Added to Red and Blue, Violet and Green, Single Reversed Diagonal. 1979. Gouache on paper, 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2 1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8” x  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/8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0" descr="0602"/>
          <p:cNvPicPr/>
          <p:nvPr/>
        </p:nvPicPr>
        <p:blipFill>
          <a:blip r:embed="rId1"/>
          <a:stretch/>
        </p:blipFill>
        <p:spPr>
          <a:xfrm>
            <a:off x="5267160" y="1600200"/>
            <a:ext cx="2799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hythm and Motion: Me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nobje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apes are capable of producing an undulating rhythm, here we see it created in a photograp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hythmic pattern can establish an emotional response in a vie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457200" y="5867280"/>
            <a:ext cx="4114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ert Renger-Patzsch. Buchenwald in Herbst (Beech Forest in Autumn). 1936. Silver gelatin print, 8 3/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”x  6 3/8” (22.2  x 16.2 cm). The Metropolitan Museum of Art, Warner Communications, Inc., purchase fund, 1980; 1980.1063.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6" descr="0603"/>
          <p:cNvPicPr/>
          <p:nvPr/>
        </p:nvPicPr>
        <p:blipFill>
          <a:blip r:embed="rId1"/>
          <a:stretch/>
        </p:blipFill>
        <p:spPr>
          <a:xfrm>
            <a:off x="4892760" y="1600200"/>
            <a:ext cx="354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hythm and Motion: Shapes and Repet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ten we talk abou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hy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erms of  repeating shapes and their arrangement, but we can also talk about rhythm in terms of colors and tex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usic some rhythms are call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g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connecting and flow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ould also use this term to talk about 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457200" y="541008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ce Barnbaum. Dune Ridges at Sunrise, Death Valley. 1976. Silver gelatin print, 10 3/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” x 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 1/4” (27.3  33.6 cm). Courtesy of the photograph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4" descr="0606"/>
          <p:cNvPicPr/>
          <p:nvPr/>
        </p:nvPicPr>
        <p:blipFill>
          <a:blip r:embed="rId1"/>
          <a:stretch/>
        </p:blipFill>
        <p:spPr>
          <a:xfrm>
            <a:off x="4648320" y="2201760"/>
            <a:ext cx="40384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iece suggests a playful rhythm.   Elements repeat, but in less predictable ways and with quite a bit of var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48320" y="597204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Crockett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oodle de Do. 2006. Oil on canvas, 5’ x 6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06-117c.jpg"/>
          <p:cNvPicPr/>
          <p:nvPr/>
        </p:nvPicPr>
        <p:blipFill>
          <a:blip r:embed="rId1"/>
          <a:stretch/>
        </p:blipFill>
        <p:spPr>
          <a:xfrm>
            <a:off x="4419720" y="1676520"/>
            <a:ext cx="450828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Alternating Rhyth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s and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ythm is characteristic in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Seasons, day and night, tides, and planetary m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ternating rhyth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cessive patterns in which the same elements reappear in a regular or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brating Col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colors that create a disturbance in the retina creating a visual vibration for the vie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800600" y="6248520"/>
            <a:ext cx="388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na Andrade. Interchange. 1976. Acrylic on canvas,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 4 3/4”  x 3’ 4 3/4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06-118.tiff"/>
          <p:cNvPicPr/>
          <p:nvPr/>
        </p:nvPicPr>
        <p:blipFill>
          <a:blip r:embed="rId1"/>
          <a:stretch/>
        </p:blipFill>
        <p:spPr>
          <a:xfrm>
            <a:off x="4495680" y="1569960"/>
            <a:ext cx="4511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s in Architecture and 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 often displays alternating rhyth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very common in buildings with columns, such as Greek te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een in brick and window pla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0611"/>
          <p:cNvPicPr/>
          <p:nvPr/>
        </p:nvPicPr>
        <p:blipFill>
          <a:blip r:embed="rId1"/>
          <a:stretch/>
        </p:blipFill>
        <p:spPr>
          <a:xfrm>
            <a:off x="2971800" y="2508120"/>
            <a:ext cx="6192720" cy="43498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380880" y="5486400"/>
            <a:ext cx="2514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ick cornice. Published in James Stokoe,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Decorative and Ornament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Brickwork (New York: Dover Publications, 1982), p. 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20:44:34Z</dcterms:created>
  <dc:creator>user </dc:creator>
  <dc:description/>
  <dc:language>en-US</dc:language>
  <cp:lastModifiedBy>TL User</cp:lastModifiedBy>
  <dcterms:modified xsi:type="dcterms:W3CDTF">2010-09-17T16:01:05Z</dcterms:modified>
  <cp:revision>54</cp:revision>
  <dc:subject/>
  <dc:title>Design Principles Chapter Summary/Notes Chapter 6: Rhythm </dc:title>
</cp:coreProperties>
</file>