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06C-2B06-4E60-A3A3-0CE0607B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479-C25E-4F1C-AC9A-41ACE41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54B-579E-409F-9B49-1FE3D042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EE6-C106-4E75-8F98-B4340D81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133-9756-43F5-8C06-08CB6CE2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6AB4-1782-4FA6-9AA7-91E4825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15D-4576-4BF5-BF01-802245B3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370C-C9C3-40DE-837C-3DC46DA8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8F9-FA75-4742-849B-F2C63E4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A18-43EC-4F87-A8A7-E25BDE6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945-C214-4DEF-BBB0-F4FC18B4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A35-F9DC-42AD-8A63-9AFC8B9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8D9-026F-4547-B969-EB193E9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68E-A06A-4960-BAA2-3215AAB3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47B6-6CBB-4B75-A1C4-FA98CA64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31D6-F120-4889-939D-6BEF791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D5FD-B4EE-42D6-911C-B15D9BCE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F38-CAC0-40FA-804C-43C9028C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90E-FE9D-4EEB-8651-C5511987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8E4-E9CE-44D6-A4A3-33D757A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22-AF7C-42D9-9B92-90604D4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745-D60A-409F-8D1D-46B5793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091-A52A-44B9-A5F8-5A48EBB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3BD-4C63-4831-80B9-1089BD3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262-689C-4123-9C1C-83AD1DE5A5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5C0-7D1E-44E9-919E-F5B442393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cityreview.com/malevi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: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gressive Rhythm: Converg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ive Rhy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nother type of rhythm is where the repetition of a shape changes in a regular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hapes that gets bigger or smaller as it repeats demonstrates progressive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nclude color, value, and te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familiar type of rhythm for 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3520" y="594216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724280" y="5867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Weston. Artichoke, Halved. 1930. Silver gelatin print, 7’ 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9’ 1/2” (19 x 24.1 cm).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81. Center for Creative Photography, Arizona Board of Re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0615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RHYTHMIC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ly of perhaps several different rhythmic patterns produces a complex result, even if the parts may be simple.   This is known as Polyrhythmic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79600" y="6324480"/>
            <a:ext cx="798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an Léone Gérome.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e Duel after the Masquerade. 1857–1859. Oil on canvas, 1' 3 ⁄ ” x 1' 10 ⁄16" (39.1 x 56.3 c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06-122.tiff"/>
          <p:cNvPicPr/>
          <p:nvPr/>
        </p:nvPicPr>
        <p:blipFill>
          <a:blip r:embed="rId1"/>
          <a:stretch/>
        </p:blipFill>
        <p:spPr>
          <a:xfrm>
            <a:off x="1989000" y="2666880"/>
            <a:ext cx="516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sthetic emp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When a visual experience (an art piece) stimulates one of our other senses. If you look at a piece of art and it resonates with memories and/or associations, that is kinesthetic 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" y="556272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Burchfield. The Insect Chorus. 1917. Opaque and transparent watercolor with ink and crayon on paper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7 7/8”x  1’ 3 7/8” (50 x 40 cm). Munson-Williams-Proctor Institute. Museum of Art, Utica, New York (Edward W. Root Bequest), 58.10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0617"/>
          <p:cNvPicPr/>
          <p:nvPr/>
        </p:nvPicPr>
        <p:blipFill>
          <a:blip r:embed="rId1"/>
          <a:stretch/>
        </p:blipFill>
        <p:spPr>
          <a:xfrm>
            <a:off x="5459400" y="1600200"/>
            <a:ext cx="353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hythm of an artwork’s design creates a sensation, for example heat, metallic sound, jumpines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emat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Russian art movement of the early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hat emphasized nonobjectiv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thecityreview.com/malevi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56386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simir Malevich. Suprematist Composition: Sensation of Metallic Sounds. 1915. Pencil,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x 6 1/2” (20.9 x 16.4 cm). Kunstmuseum Basel, Kupferstichkabinett (1969.51.11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618"/>
          <p:cNvPicPr/>
          <p:nvPr/>
        </p:nvPicPr>
        <p:blipFill>
          <a:blip r:embed="rId2"/>
          <a:stretch/>
        </p:blipFill>
        <p:spPr>
          <a:xfrm>
            <a:off x="4648320" y="1879560"/>
            <a:ext cx="40384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: Visual Rhy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hyth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ign principle that is based on repet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rhythm is based on the repetition of elements that are the same or only slight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a beat or flow of images that invoke a feeling of pattern or rhy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ociate rhythm with hearing, but it can also be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33520" y="60958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t Riley. Series 35. Olive Added to Red and Blue, Violet and Green, Single Reversed Diagonal. 1979. Gouache on paper, 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 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” x 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/8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0602"/>
          <p:cNvPicPr/>
          <p:nvPr/>
        </p:nvPicPr>
        <p:blipFill>
          <a:blip r:embed="rId1"/>
          <a:stretch/>
        </p:blipFill>
        <p:spPr>
          <a:xfrm>
            <a:off x="5267160" y="1600200"/>
            <a:ext cx="2799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hythm and Motion: 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pes are capable of producing an undulating rhythm, here we see it created in a photo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hythmic pattern can establish an emotional response in a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57200" y="586728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Renger-Patzsch. Buchenwald in Herbst (Beech Forest in Autumn). 1936. Silver gelatin print, 8 3/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x  6 3/8” (22.2  x 16.2 cm). The Metropolitan Museum of Art, Warner Communications, Inc., purchase fund, 1980; 1980.1063.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0603"/>
          <p:cNvPicPr/>
          <p:nvPr/>
        </p:nvPicPr>
        <p:blipFill>
          <a:blip r:embed="rId1"/>
          <a:stretch/>
        </p:blipFill>
        <p:spPr>
          <a:xfrm>
            <a:off x="4892760" y="1600200"/>
            <a:ext cx="354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hythm and Motion: Shapes and Repet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ten we talk abo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 repeating shapes and their arrangement, but we can also talk about rhythm in terms of colors and tex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usic some rhythm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g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connecting and f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use this term to talk about 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57200" y="54100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Barnbaum. Dune Ridges at Sunrise, Death Valley. 1976. Silver gelatin print, 10 3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 1/4” (27.3  33.6 cm). Courtesy of the photograp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0606"/>
          <p:cNvPicPr/>
          <p:nvPr/>
        </p:nvPicPr>
        <p:blipFill>
          <a:blip r:embed="rId1"/>
          <a:stretch/>
        </p:blipFill>
        <p:spPr>
          <a:xfrm>
            <a:off x="4648320" y="2201760"/>
            <a:ext cx="4038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ece suggests a playful rhythm.   Elements repeat, but in less predictable ways and with quite a bit of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48320" y="59720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Crocket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odle de Do. 2006. Oil on canvas, 5’ x 6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06-117c.jpg"/>
          <p:cNvPicPr/>
          <p:nvPr/>
        </p:nvPicPr>
        <p:blipFill>
          <a:blip r:embed="rId1"/>
          <a:stretch/>
        </p:blipFill>
        <p:spPr>
          <a:xfrm>
            <a:off x="4419720" y="1676520"/>
            <a:ext cx="450828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lternating Rhy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s an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 is characteristic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asons, day and night, tides, and planetary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ternating rhyth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ssive patterns in which the same elements reappear in a regular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brating Col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lors that create a disturbance in the retina creating a visual vibration for the vie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800600" y="6248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na Andrade. Interchange. 1976. Acrylic on canvas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4 3/4”  x 3’ 4 3/4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06-118.tiff"/>
          <p:cNvPicPr/>
          <p:nvPr/>
        </p:nvPicPr>
        <p:blipFill>
          <a:blip r:embed="rId1"/>
          <a:stretch/>
        </p:blipFill>
        <p:spPr>
          <a:xfrm>
            <a:off x="4495680" y="1569960"/>
            <a:ext cx="451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 in Architecture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often displays alternating rhyth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very common in buildings with columns, such as Greek t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n in brick and window pla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611"/>
          <p:cNvPicPr/>
          <p:nvPr/>
        </p:nvPicPr>
        <p:blipFill>
          <a:blip r:embed="rId1"/>
          <a:stretch/>
        </p:blipFill>
        <p:spPr>
          <a:xfrm>
            <a:off x="2971800" y="2508120"/>
            <a:ext cx="6192720" cy="4349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0880" y="5486400"/>
            <a:ext cx="2514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ck cornice. Published in James Stokoe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ecorative and Ornamen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rickwork (New York: Dover Publications, 1982), p.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0:44:34Z</dcterms:created>
  <dc:creator>user </dc:creator>
  <dc:description/>
  <dc:language>en-US</dc:language>
  <cp:lastModifiedBy>TL User</cp:lastModifiedBy>
  <dcterms:modified xsi:type="dcterms:W3CDTF">2010-09-17T16:01:05Z</dcterms:modified>
  <cp:revision>54</cp:revision>
  <dc:subject/>
  <dc:title>Design Principles Chapter Summary/Notes Chapter 6: Rhythm </dc:title>
</cp:coreProperties>
</file>