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39C-25F7-413F-B22F-51E9D651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682-E9B3-4CA7-B4BA-6508A2B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289-B84C-483C-9CAC-6318AA16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2DA-B05D-4A91-B3F1-74769EC7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B89-CD70-402F-B676-F4D54B57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0557-ACCF-4FC6-977C-42A139E1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A409-4FCD-4357-948A-27CFA9B5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D99A-0CE4-4B93-B103-6AD0A666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308-08D7-40A3-BF09-23285915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9AA-9638-42C9-BB62-D31D4B62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C027-0931-494A-90F9-E532506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BD5-6A25-41A3-8901-1FD25B72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9EC-CEFA-4EFA-9B07-FDC82B1E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9BE5-5395-49F9-B1A0-F9E6704E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EE6-0F63-407A-B281-702C3E33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14EA-39D5-4FAA-A453-0DC8873F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9568-69D1-4228-A188-DD8CAE58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25C-39C6-4D29-9E8D-20AD5EAB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F52-1871-479C-AFE9-F3673FA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ED3-7B11-4093-899F-B9E90A4E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12C-1B76-49DA-A9AB-60CB2BE0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025-1146-46CB-B358-5488FEE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802-F3BA-40BE-814C-41998BE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2BB-7F2B-48F3-BCB4-D50179C4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BA5D-B85A-4CE7-B063-AC897F4040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33EC-C6E2-41A1-B5F5-C1BD949FC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cityreview.com/malevich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: 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gressive Rhythm: Converging Patte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gressive Rhy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nother type of rhythm is where the repetition of a shape changes in a regular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hapes that gets bigger or smaller as it repeats demonstrates progressive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nclude color, value, and te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familiar type of rhythm for 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3520" y="5942160"/>
            <a:ext cx="807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724280" y="58672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Weston. Artichoke, Halved. 1930. Silver gelatin print, 7’ 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9’ 1/2” (19 x 24.1 cm).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981. Center for Creative Photography, Arizona Board of Re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0615"/>
          <p:cNvPicPr/>
          <p:nvPr/>
        </p:nvPicPr>
        <p:blipFill>
          <a:blip r:embed="rId1"/>
          <a:stretch/>
        </p:blipFill>
        <p:spPr>
          <a:xfrm>
            <a:off x="4648320" y="2044800"/>
            <a:ext cx="40384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RHYTHMIC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ly of perhaps several different rhythmic patterns produces a complex result, even if the parts may be simple.   This is known as Polyrhythmic 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79600" y="6324480"/>
            <a:ext cx="798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ean Léone Gérome.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he Duel after the Masquerade. 1857–1859. Oil on canvas, 1' 3 ⁄ ” x 1' 10 ⁄16" (39.1 x 56.3 cm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06-122.tiff"/>
          <p:cNvPicPr/>
          <p:nvPr/>
        </p:nvPicPr>
        <p:blipFill>
          <a:blip r:embed="rId1"/>
          <a:stretch/>
        </p:blipFill>
        <p:spPr>
          <a:xfrm>
            <a:off x="1989000" y="2666880"/>
            <a:ext cx="516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the S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sthetic empath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When a visual experience (an art piece) stimulates one of our other senses. If you look at a piece of art and it resonates with memories and/or associations, that is kinesthetic 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457200" y="556272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Burchfield. The Insect Chorus. 1917. Opaque and transparent watercolor with ink and crayon on paper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7 7/8”x  1’ 3 7/8” (50 x 40 cm). Munson-Williams-Proctor Institute. Museum of Art, Utica, New York (Edward W. Root Bequest), 58.10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0617"/>
          <p:cNvPicPr/>
          <p:nvPr/>
        </p:nvPicPr>
        <p:blipFill>
          <a:blip r:embed="rId1"/>
          <a:stretch/>
        </p:blipFill>
        <p:spPr>
          <a:xfrm>
            <a:off x="5459400" y="1600200"/>
            <a:ext cx="353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oking Sight, Sound and Tou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hythm of an artwork’s design creates a sensation, for example heat, metallic sound, jumpines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ematis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Russian art movement of the early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that emphasized nonobjectiv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thecityreview.com/malevic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56386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simir Malevich. Suprematist Composition: Sensation of Metallic Sounds. 1915. Pencil, 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x 6 1/2” (20.9 x 16.4 cm). Kunstmuseum Basel, Kupferstichkabinett (1969.51.11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0618"/>
          <p:cNvPicPr/>
          <p:nvPr/>
        </p:nvPicPr>
        <p:blipFill>
          <a:blip r:embed="rId2"/>
          <a:stretch/>
        </p:blipFill>
        <p:spPr>
          <a:xfrm>
            <a:off x="4648320" y="1879560"/>
            <a:ext cx="40384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: Visual Rhy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hyth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ign principle that is based on repet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rhythm is based on the repetition of elements that are the same or only slight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 is a beat or flow of images that invoke a feeling of pattern or rhy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ociate rhythm with hearing, but it can also be vis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533520" y="609588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t Riley. Series 35. Olive Added to Red and Blue, Violet and Green, Single Reversed Diagonal. 1979. Gouache on paper, 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2 1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8” x 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/8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0" descr="0602"/>
          <p:cNvPicPr/>
          <p:nvPr/>
        </p:nvPicPr>
        <p:blipFill>
          <a:blip r:embed="rId1"/>
          <a:stretch/>
        </p:blipFill>
        <p:spPr>
          <a:xfrm>
            <a:off x="5267160" y="1600200"/>
            <a:ext cx="2799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hythm and Motion: 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n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pes are capable of producing an undulating rhythm, here we see it created in a photogra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hythmic pattern can establish an emotional response in a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57200" y="586728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ert Renger-Patzsch. Buchenwald in Herbst (Beech Forest in Autumn). 1936. Silver gelatin print, 8 3/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x  6 3/8” (22.2  x 16.2 cm). The Metropolitan Museum of Art, Warner Communications, Inc., purchase fund, 1980; 1980.1063.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0603"/>
          <p:cNvPicPr/>
          <p:nvPr/>
        </p:nvPicPr>
        <p:blipFill>
          <a:blip r:embed="rId1"/>
          <a:stretch/>
        </p:blipFill>
        <p:spPr>
          <a:xfrm>
            <a:off x="4892760" y="1600200"/>
            <a:ext cx="354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hythm and Motion: Shapes and Repet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ten we talk abou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hy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erms of  repeating shapes and their arrangement, but we can also talk about rhythm in terms of colors and tex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usic some rhythm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g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connecting and flow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ould also use this term to talk about 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57200" y="54100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ce Barnbaum. Dune Ridges at Sunrise, Death Valley. 1976. Silver gelatin print, 10 3/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” x 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1 1/4” (27.3  33.6 cm). Courtesy of the photograp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0606"/>
          <p:cNvPicPr/>
          <p:nvPr/>
        </p:nvPicPr>
        <p:blipFill>
          <a:blip r:embed="rId1"/>
          <a:stretch/>
        </p:blipFill>
        <p:spPr>
          <a:xfrm>
            <a:off x="4648320" y="2201760"/>
            <a:ext cx="40384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ece suggests a playful rhythm.   Elements repeat, but in less predictable ways and with quite a bit of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48320" y="597204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Crockett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odle de Do. 2006. Oil on canvas, 5’ x 6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06-117c.jpg"/>
          <p:cNvPicPr/>
          <p:nvPr/>
        </p:nvPicPr>
        <p:blipFill>
          <a:blip r:embed="rId1"/>
          <a:stretch/>
        </p:blipFill>
        <p:spPr>
          <a:xfrm>
            <a:off x="4419720" y="1676520"/>
            <a:ext cx="450828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lternating Rhyth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s and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 is characteristic in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Seasons, day and night, tides, and planetary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ternating rhyth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cessive patterns in which the same elements reappear in a regular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brating Col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lors that create a disturbance in the retina creating a visual vibration for the vie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800600" y="624852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na Andrade. Interchange. 1976. Acrylic on canvas,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’ 4 3/4”  x 3’ 4 3/4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06-118.tiff"/>
          <p:cNvPicPr/>
          <p:nvPr/>
        </p:nvPicPr>
        <p:blipFill>
          <a:blip r:embed="rId1"/>
          <a:stretch/>
        </p:blipFill>
        <p:spPr>
          <a:xfrm>
            <a:off x="4495680" y="1569960"/>
            <a:ext cx="451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 in Architecture and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often displays alternating rhyth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very common in buildings with columns, such as Greek te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en in brick and window pla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0611"/>
          <p:cNvPicPr/>
          <p:nvPr/>
        </p:nvPicPr>
        <p:blipFill>
          <a:blip r:embed="rId1"/>
          <a:stretch/>
        </p:blipFill>
        <p:spPr>
          <a:xfrm>
            <a:off x="2971800" y="2508120"/>
            <a:ext cx="6192720" cy="43498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380880" y="5486400"/>
            <a:ext cx="2514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ck cornice. Published in James Stokoe,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Decorative and Ornamen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Brickwork (New York: Dover Publications, 1982), p. 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0:44:34Z</dcterms:created>
  <dc:creator>user </dc:creator>
  <dc:description/>
  <dc:language>en-US</dc:language>
  <cp:lastModifiedBy>TL User</cp:lastModifiedBy>
  <dcterms:modified xsi:type="dcterms:W3CDTF">2010-09-17T16:01:05Z</dcterms:modified>
  <cp:revision>54</cp:revision>
  <dc:subject/>
  <dc:title>Design Principles Chapter Summary/Notes Chapter 6: Rhythm </dc:title>
</cp:coreProperties>
</file>