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543-6726-4B46-A542-100541F8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723-CFEF-4D8D-9C6A-83D834C7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B96-9CFE-4827-BA05-257F93E0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CDE-C5FF-4D9E-A3AD-68C69219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BD82-388C-4ED9-891A-0BB06A4A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6A80-5B4A-4E1B-B4AF-3C09C45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D17F-A16F-4270-8AD4-4790C19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D667-347F-4815-A46A-2313FF7D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9E9A-A668-415E-B9AE-5DC9C10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64E9-639B-4082-906C-954345E0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6261-0DF3-4F59-A81D-75ECB0B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B44-3BC3-42EF-879A-12352718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F2A5-67E5-4253-A05F-71BE3F9F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0CD5-5A14-446E-B6FB-772E041E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6A0A-5F8B-42A8-947C-2A719D64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B24A-00B3-40EC-BA8A-112E8E7A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D746-E255-4DBA-A7A6-6F6A07D3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A20-6082-4632-BCBF-ED1608E3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BCA-8BA7-4CE9-A116-5C489A49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78C-6B1B-47E7-BDE7-1E17F2B8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71A-0C7B-463A-98A0-C3FBB71E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7A5-8A96-49D3-9712-BC297487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B92-F0D5-43E8-9FDA-822D3CC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DE5-8386-4CFA-917F-322E2A2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116-DB3D-4A4D-AAF2-AE76366DC2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728E-28AF-47C5-A2CA-98F83EEC91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cityreview.com/malevich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: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gressive Rhythm: Converging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essive Rhy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nother type of rhythm is where the repetition of a shape changes in a regular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hapes that gets bigger or smaller as it repeats demonstrates progressive rhyth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nclude color, value, and tex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very familiar type of rhythm for 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33520" y="594216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724280" y="58672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Weston. Artichoke, Halved. 1930. Silver gelatin print, 7’ 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 x 9’ 1/2” (19 x 24.1 cm).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981. Center for Creative Photography, Arizona Board of Re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0615"/>
          <p:cNvPicPr/>
          <p:nvPr/>
        </p:nvPicPr>
        <p:blipFill>
          <a:blip r:embed="rId1"/>
          <a:stretch/>
        </p:blipFill>
        <p:spPr>
          <a:xfrm>
            <a:off x="4648320" y="2044800"/>
            <a:ext cx="40384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RHYTHMIC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ly of perhaps several different rhythmic patterns produces a complex result, even if the parts may be simple.   This is known as Polyrhythmic 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79600" y="6324480"/>
            <a:ext cx="798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ean Léone Gérome.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he Duel after the Masquerade. 1857–1859. Oil on canvas, 1' 3 ⁄ ” x 1' 10 ⁄16" (39.1 x 56.3 cm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06-122.tiff"/>
          <p:cNvPicPr/>
          <p:nvPr/>
        </p:nvPicPr>
        <p:blipFill>
          <a:blip r:embed="rId1"/>
          <a:stretch/>
        </p:blipFill>
        <p:spPr>
          <a:xfrm>
            <a:off x="1989000" y="2666880"/>
            <a:ext cx="516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ing the S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nesthetic emp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When a visual experience (an art piece) stimulates one of our other senses. If you look at a piece of art and it resonates with memories and/or associations, that is kinesthetic 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oking Sight, Sound and Tou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57200" y="556272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Burchfield. The Insect Chorus. 1917. Opaque and transparent watercolor with ink and crayon on paper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7 7/8”x  1’ 3 7/8” (50 x 40 cm). Munson-Williams-Proctor Institute. Museum of Art, Utica, New York (Edward W. Root Bequest), 58.10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0617"/>
          <p:cNvPicPr/>
          <p:nvPr/>
        </p:nvPicPr>
        <p:blipFill>
          <a:blip r:embed="rId1"/>
          <a:stretch/>
        </p:blipFill>
        <p:spPr>
          <a:xfrm>
            <a:off x="5459400" y="1600200"/>
            <a:ext cx="3532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oking Sight, Sound and Tou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hythm of an artwork’s design creates a sensation, for example heat, metallic sound, jumpines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rematis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Russian art movement of the early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that emphasized nonobjectiv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thecityreview.com/malevi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563868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simir Malevich. Suprematist Composition: Sensation of Metallic Sounds. 1915. Pencil,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x 6 1/2” (20.9 x 16.4 cm). Kunstmuseum Basel, Kupferstichkabinett (1969.51.11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0618"/>
          <p:cNvPicPr/>
          <p:nvPr/>
        </p:nvPicPr>
        <p:blipFill>
          <a:blip r:embed="rId2"/>
          <a:stretch/>
        </p:blipFill>
        <p:spPr>
          <a:xfrm>
            <a:off x="4648320" y="1879560"/>
            <a:ext cx="40384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: Visual Rhy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hyth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ign principle that is based on repet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rhythm is based on the repetition of elements that are the same or only slightly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is a beat or flow of images that invoke a feeling of pattern or rhy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ociate rhythm with hearing, but it can also be vis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33520" y="609588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t Riley. Series 35. Olive Added to Red and Blue, Violet and Green, Single Reversed Diagonal. 1979. Gouache on paper, 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 1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” x  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/8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0" descr="0602"/>
          <p:cNvPicPr/>
          <p:nvPr/>
        </p:nvPicPr>
        <p:blipFill>
          <a:blip r:embed="rId1"/>
          <a:stretch/>
        </p:blipFill>
        <p:spPr>
          <a:xfrm>
            <a:off x="5267160" y="1600200"/>
            <a:ext cx="2799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hythm and Motion: Me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pes are capable of producing an undulating rhythm, here we see it created in a photograp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hythmic pattern can establish an emotional response in a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57200" y="5867280"/>
            <a:ext cx="411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ert Renger-Patzsch. Buchenwald in Herbst (Beech Forest in Autumn). 1936. Silver gelatin print, 8 3/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x  6 3/8” (22.2  x 16.2 cm). The Metropolitan Museum of Art, Warner Communications, Inc., purchase fund, 1980; 1980.1063.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0603"/>
          <p:cNvPicPr/>
          <p:nvPr/>
        </p:nvPicPr>
        <p:blipFill>
          <a:blip r:embed="rId1"/>
          <a:stretch/>
        </p:blipFill>
        <p:spPr>
          <a:xfrm>
            <a:off x="4892760" y="1600200"/>
            <a:ext cx="354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hythm and Motion: Shapes and Repet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ten we talk abou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hy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erms of  repeating shapes and their arrangement, but we can also talk about rhythm in terms of colors and tex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usic some rhythm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g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connecting and flow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also use this term to talk about 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457200" y="541008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ce Barnbaum. Dune Ridges at Sunrise, Death Valley. 1976. Silver gelatin print, 10 3/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 x 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 1/4” (27.3  33.6 cm). Courtesy of the photograph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0606"/>
          <p:cNvPicPr/>
          <p:nvPr/>
        </p:nvPicPr>
        <p:blipFill>
          <a:blip r:embed="rId1"/>
          <a:stretch/>
        </p:blipFill>
        <p:spPr>
          <a:xfrm>
            <a:off x="4648320" y="2201760"/>
            <a:ext cx="40384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ece suggests a playful rhythm.   Elements repeat, but in less predictable ways and with quite a bit of var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48320" y="597204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Crocket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odle de Do. 2006. Oil on canvas, 5’ x 6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06-117c.jpg"/>
          <p:cNvPicPr/>
          <p:nvPr/>
        </p:nvPicPr>
        <p:blipFill>
          <a:blip r:embed="rId1"/>
          <a:stretch/>
        </p:blipFill>
        <p:spPr>
          <a:xfrm>
            <a:off x="4419720" y="1676520"/>
            <a:ext cx="450828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Alternating Rhyth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s and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ythm is characteristic in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Seasons, day and night, tides, and planetary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ternating rhyth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cessive patterns in which the same elements reappear in a regular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brating Col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lors that create a disturbance in the retina creating a visual vibration for the vie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800600" y="624852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na Andrade. Interchange. 1976. Acrylic on canvas,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4 3/4”  x 3’ 4 3/4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06-118.tiff"/>
          <p:cNvPicPr/>
          <p:nvPr/>
        </p:nvPicPr>
        <p:blipFill>
          <a:blip r:embed="rId1"/>
          <a:stretch/>
        </p:blipFill>
        <p:spPr>
          <a:xfrm>
            <a:off x="4495680" y="1569960"/>
            <a:ext cx="451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 in Architecture and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often displays alternating rhyth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very common in buildings with columns, such as Greek te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en in brick and window pla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0611"/>
          <p:cNvPicPr/>
          <p:nvPr/>
        </p:nvPicPr>
        <p:blipFill>
          <a:blip r:embed="rId1"/>
          <a:stretch/>
        </p:blipFill>
        <p:spPr>
          <a:xfrm>
            <a:off x="2971800" y="2508120"/>
            <a:ext cx="6192720" cy="43498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80880" y="5486400"/>
            <a:ext cx="2514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ck cornice. Published in James Stokoe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ecorative and Ornamen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Brickwork (New York: Dover Publications, 1982), p. 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20:44:34Z</dcterms:created>
  <dc:creator>user </dc:creator>
  <dc:description/>
  <dc:language>en-US</dc:language>
  <cp:lastModifiedBy>TL User</cp:lastModifiedBy>
  <dcterms:modified xsi:type="dcterms:W3CDTF">2010-09-17T16:01:05Z</dcterms:modified>
  <cp:revision>54</cp:revision>
  <dc:subject/>
  <dc:title>Design Principles Chapter Summary/Notes Chapter 6: Rhythm </dc:title>
</cp:coreProperties>
</file>